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558-D3EF-4D33-B5C7-00F2AD3E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2C2-7EFF-4402-8CE8-90F4F870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928-7BC9-45C7-930A-2B2A711F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924-57FE-4DB0-9693-77E84E2F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D2F-3107-49E0-9E39-EF68639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1AD-E5BF-4241-B0D8-0403E31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E20-C594-4DF1-94DB-1A0D1012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FF1-DF3F-478A-8862-9815715E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C8A-9396-467A-BFF2-E7C16D27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919-BDC0-4A59-B7C7-1D70EEAA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F74-2EBE-44F3-B323-4D3E127B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EE8-68AB-4D23-976E-33DCD66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AEBA-F06B-4FEE-A1DF-927F6892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33720" y="2209680"/>
            <a:ext cx="458136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llad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Work of known professional po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These poets were so impressed by the vigor and emotion of the ballads that they imitat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Generally more sophisticated, subtle, and subjective</a:t>
            </a:r>
            <a:r>
              <a:rPr b="1" lang="en-US" sz="3200" spc="-1" strike="noStrike">
                <a:solidFill>
                  <a:srgbClr val="660066"/>
                </a:solidFill>
                <a:latin typeface="Century Gothic"/>
                <a:ea typeface="Arial"/>
              </a:rPr>
              <a:t>― more 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  <a:ea typeface="Arial"/>
              </a:rPr>
              <a:t>Example: “The Rime of the Ancient Marin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752480" y="457200"/>
            <a:ext cx="5639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Gothic"/>
              </a:rPr>
              <a:t>Literary Ballads</a:t>
            </a:r>
            <a:endParaRPr b="1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A song/narrative poem transmitted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rally</a:t>
            </a:r>
            <a:r>
              <a:rPr b="1" i="1" lang="en-US" sz="3200" spc="-1" strike="noStrike">
                <a:solidFill>
                  <a:srgbClr val="660066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that tells a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Focuses on one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Begins in the midst of a crisis (in medias 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Proceeds to the resolution with little background information, character development, or descriptive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743200" y="380880"/>
            <a:ext cx="35812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lk Ballads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Early Ballads often includ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Tragic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Domestic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Shipwr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Sensational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Exploits of out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1593720" cy="1666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2953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Just like today with tabloid headlines and soap operas, certain forms of popular entertainment tended toward the sens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Plo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Three dead sons visit mother for din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A maiden is headed for the gallows, and her family refuses to he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Later ballads often includ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entury Gothic"/>
              </a:rPr>
              <a:t>Historical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entury Gothic"/>
              </a:rPr>
              <a:t>Romantic her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These ballads were written toward end of the Middle Ages when English was accepted as a language of literary mer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Four lines per st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Second and fourth lines rhyme and are often shorter than the first and third lines (ABCB rhyme sche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2362320" y="304920"/>
            <a:ext cx="4038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Structure</a:t>
            </a:r>
            <a:endParaRPr b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Stock descriptive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A word or phrase habitually used by a group of people: a cli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Example: blood-red w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One less thing for the singer to 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Refrain in each stanza (repet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Contributed to the song’s rhythm and reinforced its 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Provided the singer with time to think of the next 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Incremental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A line or stanza is repeated, but with an addition that advances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2362320" y="609480"/>
            <a:ext cx="444312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Usual Formula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Treats a highly dramatic situation in the simplest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Uses a considerable amount of dialogue (sometimes local diale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Because ballads were well-known, the folk balladeer could often skip parts, which allowed him to develop parts that interested him. This accounts for the gaps in plots – “leaping and lingering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2057400" y="457200"/>
            <a:ext cx="508176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Characteristics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Ballads deal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Strong elemental passions of hum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Powerfully depicted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Hatred, faith, revenge, fear, courage, 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Many involve the supernatural and end trag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14400" y="457200"/>
            <a:ext cx="380988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Characteristics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3200400" y="4648320"/>
            <a:ext cx="177624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6:20:10Z</dcterms:created>
  <dc:creator>Dot</dc:creator>
  <dc:description/>
  <dc:language>en-US</dc:language>
  <cp:lastModifiedBy>Siracusa Brittani</cp:lastModifiedBy>
  <dcterms:modified xsi:type="dcterms:W3CDTF">2014-04-21T14:08:47Z</dcterms:modified>
  <cp:revision>30</cp:revision>
  <dc:subject/>
  <dc:title>Ballads</dc:title>
</cp:coreProperties>
</file>